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5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6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7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A7BC-CD1A-4CD3-BB12-8ADC5136850D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FA96D-00FD-4E45-9C3E-D8035D2F936C}" type="slidenum">
              <a:rPr b="0" lang="en-US" sz="13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4CFAF-2145-4AFD-BAD2-CB13251B68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202B1-0F3C-4FEF-AB8C-73FCD82652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4C4D2-61F6-4D5E-B5A0-394B891D8AD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1710C-E8B3-4504-91B1-DAE9D2A89E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38F53-36CB-45FD-AFF4-9AB6D8F1FC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9C371-4A7A-4902-93ED-3FF72D12BA1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3B0FA-98A8-435D-8F58-D5B49C37C1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CB33D-E979-49EE-97F2-53342E1768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1BDE-2B06-4FA3-94C7-EC2008EC64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96832-ECB1-435E-B691-5D0853BFC4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D9A2-70E0-48A2-B991-37046228E0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1030F-E416-4043-BEEE-448280A3498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A0753-83D1-4D95-9885-3F719F9EB9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DB237-EACF-4DAE-BF93-68F03065715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2FBA2-5F0F-4E27-83D1-371F9A68FD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37E77-441C-4439-A88D-2D60495B92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B4913-3C05-4B41-939F-3C686BF1A6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442FF-60FF-4396-85F2-6A5BA666ECB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46B74-48E7-4547-AED9-B96E81E038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0FD06-95D2-409D-B464-65D2073C11B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D23C2-11B2-485B-A246-55E65C5780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3D141-C8E7-4053-92CA-FD1BC26FCC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95C01-4EAE-42DE-8474-CD48104CE9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BD096-5AD2-41F7-9A4B-8FCE12669E4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23EB2-2485-46C4-ADEE-D7BA4C33EEE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DD7E2-C819-4695-94B6-5C24DA2D44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D138C-CE66-4F7D-9E52-9E017DB4E8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39FE8-2CD8-4C6A-9DFB-4845998AFC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45CC2-ECAB-4F39-A2EB-17F6C68A27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1E64B-B6A8-424F-AD79-08C424952AF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8D1EA-6399-45EF-8AC2-2DCB771FEA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E85-B187-4CF4-AE9F-9E91A1B3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8FB-A9CB-4238-A151-6988280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B75D3-57D3-48BA-8DBF-FAE7D5D6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E0938-7573-43CC-9904-4EB6F174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98800-44DC-4046-B95B-3BF40A2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17A26-E905-40C3-A9A4-72DA72CA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E20A2-EF51-4BA9-9AAE-087993BE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8F4AB-B81D-485B-84E8-D3363C0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6AD19-EE6D-4096-BF81-729D2223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C4848-72A9-4914-8247-636D80A4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F251B-4848-4F34-B871-A6ADDABF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46BBC-E642-4FF7-A15B-7DCD4159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055-2516-4E76-9A8E-B1E16392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E167E-964C-432C-941D-A675D65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5E2E0-684E-4D75-B088-A99EAB0A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D90FBD-DB84-47A3-BE22-8F46E982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68B20-0A10-4504-8DCB-D9EFCD3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2D08F-FCF0-40A8-9070-A65BFF0B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7786B-A899-4A44-B26A-166C50DB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B043B1-E8A8-4D80-9581-66D23C99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42FD2-9753-4EEF-9DE4-D1CA233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F81B2-B7FB-4076-B197-B8257E0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FFDCD-7FBF-4739-95CD-67A15BFA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4DE-F79C-4CB2-852C-0E32C5DE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FDCF7-7656-47FE-A692-DD83643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D10A67-A89B-4FA9-B3ED-23101AE3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88BC12-57AF-462F-8523-EE939C2F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25441E-8C2B-4679-8DA0-E53A8DFF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51574D-8C21-47BC-86DE-40976503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25B659-9C1B-4868-A378-19BC2EB1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D05920-CB76-4943-A0CB-3CD444A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3BE193-5F5B-468B-8948-6380B6F4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D84D75-C11C-4E2C-890F-70134F0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B74400-DAAE-4C3D-A9D6-92672C5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DD826-0153-4EA1-BA74-50C954BA9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26A8C-85CF-41B3-A5A4-0EDC3D3B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C45FEF-E149-47D8-9EA0-D8BAF443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4FB705-06EE-421D-B100-A03A0632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A20B9-1D49-47D8-8709-4A1E29B9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BEE8D-78C2-4C11-8A7E-6B0E440A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A988F-8FC0-425D-9B1E-B28E2F2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340C3-3B99-446C-845C-145D300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B506F-0893-4F3F-A305-74F933D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246A3-F09A-48AF-BE53-B6B28458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B9CA5-9014-4433-8F76-83816F1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C785E-00B5-41F3-A1FD-2BB7010F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247B5-C17D-4880-BF9A-DC3A2B8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CA952-E4D0-4F80-A109-19BE6AB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E00F3-5927-4E04-B785-9DC8206F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D84D9-203C-49B0-B748-2D4A7E2F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1B974-C03D-4F05-BB8A-2620BE10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AF615-5161-44A7-A82B-8051263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9397E-FD64-4A2B-9898-86E94C68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4C34D-32A8-43D1-AB1E-08E270D1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E05E-1C06-4C3B-8CF9-79E86929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39C42-3214-4670-8255-CA64E7D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9D9-F850-4CED-8477-F8377BA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8F090-C33D-48A0-A314-AED9030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45AA-F338-4B23-96CB-28049E0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64627-DB2E-49D9-B616-4532278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D8D9D-0878-4AD1-8978-1AFB626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728FC-F1A9-4E01-BE51-B08E39AA49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BD0B1-111C-4C94-8557-732A1FC03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A7F2D-A2AA-448E-B9A0-0780B2A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A6397-FD27-4FA9-AB35-2A6E73E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F6371-4EDE-4195-8DEA-7D2F453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B56C7-0865-4CA0-BABC-818BDB44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6D2-4413-4698-AECE-566FD633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16AA4-980A-45BF-8C0A-2BCAAA05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81C55-C239-49B1-887F-ABC8D0F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A69B7-2036-4217-8248-21954FDF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BFDCA-DD4B-49F0-936E-9FA209C0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BA3B3-4CA3-4199-9F00-3341E8B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9B94E-8D45-46F1-B9F7-766BDD4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A8972-B189-4A2B-98B0-AED17108C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03EB6-F173-4EFC-86EF-30D4496D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B7900-62A6-4FB9-BB7F-C03E8D09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576DF8-1C95-4B8C-BF60-CD765AF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F3A-AD4A-4C26-9C2A-4A2FB5E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16C0C-E28C-45D6-8809-ED4806A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24436-71DF-45BE-B282-629D8EF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87AC1-27BE-4902-9801-359F45B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C13F6-5144-4A68-8DAB-3FE072D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E4CDD-CCF2-41CE-A02B-76FEA6D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31B39-0647-4A85-83BB-4E6F2193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3C617-5B1B-478D-A08F-0A9CF3B1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2B3B-6B00-41D6-B31C-CE5DE167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BB68CB-CD6E-4069-A4FB-F8355AE5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323789-AC3B-4E1A-8B05-2576AF33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068-B708-4ABC-B1D8-AE37B73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3A2A6-0319-4EA5-BE56-618F728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3F69D-26A6-4B39-B09E-D81E28C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47AAD9-4A82-4A74-B149-54D473C5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9B2F2-4712-4B10-BDC7-F44B5267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2ED1B-A3E3-4A55-8D99-CA4CB3A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CC549-7682-4C0F-9C6C-8E58C9F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AFBF43-8C50-4C35-8CFB-229D24C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66F787-BD4C-4E22-B6A6-3F1D559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7A639-3975-4FE1-AFB3-8833297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12C99F-627C-445E-B795-23DF04AE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2D1-BA78-41B4-B8CC-56F6FB06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9A5B0-B2D1-4BEF-8F70-F02D6FCA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8A449-187B-49CA-A2BE-9138387D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903088-0E4F-47AD-AB60-FCD59B79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458B8-8E02-45F3-948A-46F1DD2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7E359-4835-4ECF-B03E-B52D6C2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D890D-E78B-49C4-9A6D-081DB52D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AD4F9-FC49-4F4E-B313-6E0519C6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8699C-C8CF-4919-978A-5607C64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EB1CF-26A0-471C-845C-5C31961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84EED-055C-4515-B046-7089FA8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A21-B8AC-494A-9222-A4C327D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7B781-B463-4D3C-A6C1-11601851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9392B7-F209-461E-9F69-6F61529A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645338-2090-4430-92A2-AC404364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23B163-17EA-4136-885B-4B7ABDCF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B5875E-FEFF-4B6B-9C1F-EFF0198D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FD495A-D9B1-4B65-9ED2-0601497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E2130-D1EF-4EBF-B4D8-00C5BEC4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0D713-4C7D-45CC-9907-F3C19F5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71E62D-2D17-4EFD-88E6-0751941A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988200-CF46-4CAA-90D2-B410F3CC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2EF-E14F-4424-AE4B-96517B00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654523-BDB3-4FED-9394-C34881C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CB0B5-FEC3-4842-848E-0F92C2F9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9C1F4-2D7E-42AE-9AAE-3BC000C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13EC1-01B1-4477-AA5B-D1AF01C8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88A2E0-FA4A-49AF-B2AB-29921628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0B784-61A4-4441-8D2D-7257C8F9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633224-F722-4732-9941-0F66270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A41060-355F-46E5-B036-6BB7D30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E1877-9DEA-476E-B79C-D85F13A5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B2507-92BC-4205-A18E-65D71B8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E55-297C-4F26-840E-D040B7B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79D0A-716F-457C-B38B-EB1D7EF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CA971-50B5-4FC7-BE27-3FD7649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C19373-94BA-471D-A99A-EF4FAC64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1D5B67-14C8-448A-BCED-6A4AF3E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975B64-A300-4737-859F-7E576B07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505E7B-FEBF-4F89-AB0B-54A91212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0E6C94-7611-4A61-AAF9-A43ECFCF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3305F4-7212-4A65-8A96-0962D5F8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F058C-19FE-4339-8B36-920381F8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5A153-6B1B-4471-9C88-F200541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37A5-EDEE-4696-A023-48BD842304D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AE5-6797-4156-B23F-4570EE9EB94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8DF6-66B1-4053-9FEA-EF587972CDE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D0E-2BAC-40AD-9BAE-29BC985DE47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259-A1C9-4454-9725-F03F9081695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7"/>
          </p:nvPr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830F-DDE0-4E20-91B4-F18AA3F704D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d7e4bd"/>
              </a:gs>
              <a:gs pos="100000">
                <a:srgbClr val="c3d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358-14DF-4486-933E-43F1548CAEF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D8FD-1879-4DC4-A818-A0564D60D4B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517B-8F25-486E-9CDF-E65A0F6FC02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9D4-49FD-4CCA-984E-14E137B9709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2C9-816F-4E71-95FA-95681D43EBE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9bbb59"/>
              </a:gs>
              <a:gs pos="100000">
                <a:srgbClr val="9bbb59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COPYRIGHT 2002 TERRY FEL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F854-2099-41A0-BB61-C85AB4D6B6B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ddf"/>
                </a:solidFill>
                <a:latin typeface="Gill Sans MT"/>
              </a:rPr>
              <a:t>WEB DEVELOPMENT &amp; DESIGN FOUNDATIONS  WITH  HTML5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09480" y="4114440"/>
            <a:ext cx="792504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Chapter 2</a:t>
            </a:r>
            <a:br>
              <a:rPr sz="2800"/>
            </a:br>
            <a:r>
              <a:rPr b="0" lang="en-US" sz="2800" spc="-1" strike="noStrike">
                <a:solidFill>
                  <a:srgbClr val="eeece1"/>
                </a:solidFill>
                <a:latin typeface="Gill Sans MT"/>
              </a:rPr>
              <a:t>Key Concep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204-BB2D-443E-B199-B249D6AA3316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0" y="6629400"/>
            <a:ext cx="594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0253f"/>
                </a:solidFill>
                <a:latin typeface="Gill Sans MT"/>
              </a:rPr>
              <a:t>Copyright © Terry Felke-Morri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818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EXAMPLE  XHTML  WEB  PAG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91440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1000"/>
          </a:bodyPr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 PUBLIC "-//W3C//DTD XHTML 1.0 Transitional//EN"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http://www.w3.org/TR/xhtml1/DTD/xhtml1-transitional.dtd"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 xmlns="http://www.w3.org/1999/xhtml" lang="en" xml:lang="en"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itle&gt;Page Title Goes Here&lt;/title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meta http-equiv="Content-Type" content="text/html; charset=utf-8" /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ody text and more XHTML tags go here ..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48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FB2B-7CF9-4EAD-AC71-B17196B6353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818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EXAMPLE  HTML5  WEB  PAGE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990720" y="1219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3000"/>
          </a:bodyPr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 lang="en"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title&gt;Page Title Goes Here&lt;/title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meta charset="utf-8"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ead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body text and more HTML5 tags go here ...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ody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marL="4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94A7-891E-431B-B3FB-921AAA100DD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8216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EAD &amp; BODY SECTION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903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Hea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Se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tains information that describes the Web page document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ad section info goes her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Body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ec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Contains text and elements that display in the Web page docu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…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ody section info goes her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A604-0801-4EB6-9E6A-3A38DB52B31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ITLE  ELEMENT</a:t>
            </a:r>
            <a:br>
              <a:rPr sz="3200"/>
            </a:b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META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26" name="Picture 1" descr="Figure2"/>
          <p:cNvPicPr/>
          <p:nvPr/>
        </p:nvPicPr>
        <p:blipFill>
          <a:blip r:embed="rId1"/>
          <a:stretch/>
        </p:blipFill>
        <p:spPr>
          <a:xfrm>
            <a:off x="228600" y="380880"/>
            <a:ext cx="5172120" cy="3730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Figure2"/>
          <p:cNvPicPr/>
          <p:nvPr/>
        </p:nvPicPr>
        <p:blipFill>
          <a:blip r:embed="rId2"/>
          <a:stretch/>
        </p:blipFill>
        <p:spPr>
          <a:xfrm>
            <a:off x="2362320" y="4222800"/>
            <a:ext cx="6332400" cy="176220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3084-10B4-4870-B37D-4F8D78EE8A7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0" y="1828800"/>
            <a:ext cx="4191120" cy="2743200"/>
          </a:xfrm>
          <a:prstGeom prst="rect">
            <a:avLst/>
          </a:prstGeom>
          <a:solidFill>
            <a:srgbClr val="1f497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THE HEADING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28240" y="2133360"/>
            <a:ext cx="493236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1&gt;Heading Level 1&lt;/h1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2&gt;Heading Level 2&lt;/h2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3&gt;Heading Level 3&lt;/h3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4&gt;Heading Level 4&lt;/h4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5&gt;Heading Level 5&lt;/h5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6&gt;Heading Level 6&lt;/h6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4000" cy="464832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A39-9454-403F-9177-3518288BE5A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ARAGRAPH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218960" y="16761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Paragraph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p&gt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paragraph goes here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p&gt;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Groups sentences and sections of text together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onfigures a blank line above and below the paragraph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A8E-E448-45E6-A384-0626B55E327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LINE BREAK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371600"/>
            <a:ext cx="8337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3258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e Break eleme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tand-alone, or void tag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2" marL="1085760" indent="-2592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syntax: &lt;br /&gt;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lvl="2" marL="1085760" indent="-2592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ML syntax: &lt;br&gt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goes her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r&gt;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tarts on a new line…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05600" indent="-2595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auses the next element or text to display on a new line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034A-D0D2-4718-8EDE-C99517DC5EA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BLOCKQUOTE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66320" y="1447560"/>
            <a:ext cx="7194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Blockquote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dents a block of text for special emphasi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lockquote&gt;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…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goes here…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blockquote&gt;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2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5F9-9027-4364-990F-2FF78E3F79B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8080" y="914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dicate the context and meaning of the tex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PHRASE ELEMENT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45" name="Table 1" descr=""/>
          <p:cNvPicPr/>
          <p:nvPr/>
        </p:nvPicPr>
        <p:blipFill>
          <a:blip r:embed="rId1"/>
          <a:stretch/>
        </p:blipFill>
        <p:spPr>
          <a:xfrm>
            <a:off x="115920" y="1616040"/>
            <a:ext cx="8931240" cy="4863960"/>
          </a:xfrm>
          <a:prstGeom prst="rect">
            <a:avLst/>
          </a:prstGeom>
          <a:ln w="0">
            <a:noFill/>
          </a:ln>
        </p:spPr>
      </p:pic>
      <p:sp>
        <p:nvSpPr>
          <p:cNvPr id="646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4045-9EC1-43AA-BFE4-61C44BE4160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ML LIS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828800" y="13712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escription List</a:t>
            </a:r>
            <a:br>
              <a:rPr sz="4000"/>
            </a:br>
            <a:r>
              <a:rPr b="0" i="1" lang="en-US" sz="2400" spc="-1" strike="noStrike">
                <a:solidFill>
                  <a:srgbClr val="ffffff"/>
                </a:solidFill>
                <a:latin typeface="Gill Sans MT"/>
              </a:rPr>
              <a:t>formerly called a definition list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864F-1BD2-4833-8CB1-9DFE4083DFA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LEARNING OUTCOME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9144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6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In this chapter, you will learn how to ..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Describe HTML, XHTML, and HTML5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Identify the markup language in a web page docu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Use the html, head, body, title, and meta elements to code a template for a web pag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the body of a web page with headings, paragraphs, line breaks, divs, lists, and blockquot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text with phrase element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 special characters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Use the anchor element to link from page to pag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reate absolute, relative, and e-mail hyperlink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de, save, and display a web page documen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est a web page document for valid syntax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AEB7-E2F1-4CE6-9A29-571F1A4B647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Displays a bullet, or list marker, before each entry in the list.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ul&gt;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ains the unordered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ype attribute determines the type of bullet poi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efault type is disc (but depends on the browser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li&gt;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tains an item in the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2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BD9-62AC-4EA1-82FC-49B0E4C9F57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UNORDERED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u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TC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I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HTT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FTP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u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5410080" y="1968480"/>
            <a:ext cx="2324160" cy="20098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5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9861-6894-4137-A65C-3164E0BB6D5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09120" y="12189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isplays a numbering or lettering system to itemize the information contained in the lis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ol&gt;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ntains the ordered lis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type attribute determines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numbering scheme of list, default is numeral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li&gt;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Contains an item in the lis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989-A0DA-4B90-B64F-5E23C0DF338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ORDERED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o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Apply to school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Register for course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Pay tuition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li&gt;Attend course&lt;/li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o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92440" cy="1942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6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112A-14B4-458A-AE95-46360FE6191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ESCRIPTION LIS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Useful to display a list of terms and descriptions or a list of FAQ and answer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l&gt;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the description li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t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a term/phrase/sent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figures empty space above and below the tex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d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ontains a description of the term/phrase/sentenc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03968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Indents the tex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1039680" indent="-236520">
              <a:lnSpc>
                <a:spcPct val="8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onfigures empty space above and below the text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AACE-5163-4A19-9EAB-196E68628AD7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DESCRIPTION LIST EXAMP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t&gt;IP&lt;/dt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d&gt;Internet Protocol&lt;/dd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t&gt;TCP&lt;/dt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dd&gt;Transmission Control Protocol&lt;/dd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/dl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4878360" cy="1895760"/>
          </a:xfrm>
          <a:prstGeom prst="rect">
            <a:avLst/>
          </a:prstGeom>
          <a:ln w="0">
            <a:noFill/>
          </a:ln>
        </p:spPr>
      </p:pic>
      <p:sp>
        <p:nvSpPr>
          <p:cNvPr id="67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498E-D8FC-449B-8BFE-148576E73E0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features of a heading element and how it configures the tex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difference between ordered lists and unordered list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the purpose of the blockquote tag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EE6A-3019-45D5-94A0-C95F10600D2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09480" y="15238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Display special characters such as quotes, copyright symbol, etc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haracter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©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copy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lt;         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l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gt;         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amp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Arial"/>
              </a:rPr>
              <a:t>&amp;nbsp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SPECIAL CHARACTE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6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8C6-8AA9-4924-ACB6-3930A24F897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V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onfigures a structural block area or “division” on a web page with empty space above and below.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an contain other block display elements, including other div el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iv&gt;Home Services Contact&lt;/div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1A6-2059-4A35-BA88-960A48711249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ANCHOR ELE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13716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Specifies a hyperlink reference (href) to a fi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xt betwee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&gt;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a&gt; 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s displayed on the web page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contact.html"&gt;Contact Us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marL="430920" indent="-429480">
              <a:spcBef>
                <a:spcPts val="700"/>
              </a:spcBef>
              <a:buClr>
                <a:srgbClr val="9bbb5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ref Attribut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456480" indent="-2563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ndicates the file name or URL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67E-106B-4013-A718-2697FEE4239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HAT IS HTML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HTML: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The</a:t>
            </a:r>
            <a:r>
              <a:rPr b="1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set of markup symbols or codes placed in a file intended for display on a Web browser page.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World Wide Web Consortium (http://w3c.org) sets the standards for HTML and its related languages.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2F61-AED3-4323-95E8-AE3E9D85375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ABSOLUTE   &amp;  RELATIVE  HYPERLINK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600200" y="12952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bsolute link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2072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k to other  websi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http://yahoo.com"&gt;Yahoo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Relative link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20720" indent="-26496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ink to pages on your own si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32640" indent="-264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"index.htm"&gt;Home&lt;/a&gt;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620F-0613-4F75-BCA6-F389F2DE97E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4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E-MAIL HYPERLIN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04920" y="1066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utomatically launch the default mail program configured for the browser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If no browser default is configured, a message is displayed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 href=“mailto:me@hotmail.com”&gt;me@hotmail.com&lt;/a&gt;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4E0-0B9B-4DB3-B78A-4D3DFC30EAB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HYPERLINK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7F9-F42E-4A21-AB35-1DBFE5893C3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3619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Hands-On Practic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692" name="Picture 1" descr="Figure2"/>
          <p:cNvPicPr/>
          <p:nvPr/>
        </p:nvPicPr>
        <p:blipFill>
          <a:blip r:embed="rId1"/>
          <a:stretch/>
        </p:blipFill>
        <p:spPr>
          <a:xfrm>
            <a:off x="1828800" y="2743200"/>
            <a:ext cx="497196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CHECKPOINT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5235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514440" indent="-514440">
              <a:spcBef>
                <a:spcPts val="700"/>
              </a:spcBef>
              <a:buClr>
                <a:srgbClr val="9bbb5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 MT"/>
              </a:rPr>
              <a:t>Describe the purpose of special character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when to use an absolute link.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Is the http protocol used in the href value?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Frutiger-Ital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Describe when to use a relative link. Is the http protocol used in the href value?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Frutiger-Ital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63C-5FF0-4EF2-A49F-94FE492B35D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RITING VALID XHTML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533520" y="129492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heck your code for syntax error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Benefit: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alid code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more consistent browser display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W3C XHTML Validation Too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http://validator.w3.org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8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2EC-2C90-406F-9653-7861FCAA16B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3352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This chapter provided an introduction to HTML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Arial"/>
              </a:rPr>
              <a:t>You will use these skills over and over again as you create web pag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7455-6C8C-4521-BA63-196251FC245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HTML ELEMENT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13716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Each markup code represents an HTML 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element 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ach element has a purpose.</a:t>
            </a:r>
            <a:br>
              <a:rPr sz="2800"/>
            </a:br>
            <a:br>
              <a:rPr sz="1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ost elements are coded as a pair of tags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 opening tag and a closing tag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9960" indent="-240120">
              <a:spcBef>
                <a:spcPts val="700"/>
              </a:spcBef>
              <a:buClr>
                <a:srgbClr val="9bbb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ags are enclosed in angle brackets,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&lt;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" and "</a:t>
            </a:r>
            <a:r>
              <a:rPr b="1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" symbol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290D-3E91-47B6-BCAA-E532A4AE3403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ddf"/>
                </a:solidFill>
                <a:latin typeface="Gill Sans MT"/>
              </a:rPr>
              <a:t>WHAT IS XHTML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9903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most recent standard version of HTML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nsible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yper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ext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rkup </a:t>
            </a:r>
            <a:r>
              <a:rPr b="1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guag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uses: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elements and attributes of HTM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he syntax of XML (e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tensible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rkup </a:t>
            </a: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anguage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A8B-34B0-441E-A309-CCB1DAE358D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XML SYNTA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An XML document must be 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well-formed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Use lowercas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Use opening and closing tag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    &lt;/body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 MT"/>
                <a:ea typeface="Arial"/>
              </a:rPr>
              <a:t>Close stand-alone tag with special syntax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r  /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Slide Number Placeholder 1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378B-6AE3-4CF6-AF65-D291A66CC40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WHAT  IS  HTML5 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9000"/>
          </a:bodyPr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Newest draft version of HTML/XHTM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upported by modern browser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afari, Google Chrome, Firefox, Internet Explorer 9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ntended to be backwards compatibl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dds new element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0528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Adds new functionality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Edit form dat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Native video and audi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60960" indent="-24300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And more!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F0F2-BCB0-4DCA-AC02-BB902385C4F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" name="Picture 2" descr="http://t0.gstatic.com/images?q=tbn:ANd9GcTWC3XDuJB3kXc4l_ojUXhUx6NMmtZ0LZYmnraeL9358pZJNaqG"/>
          <p:cNvPicPr/>
          <p:nvPr/>
        </p:nvPicPr>
        <p:blipFill>
          <a:blip r:embed="rId1"/>
          <a:stretch/>
        </p:blipFill>
        <p:spPr>
          <a:xfrm>
            <a:off x="5715000" y="3733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 MT"/>
              </a:rPr>
              <a:t>DOCUMENT   TYPE  DEFINITIO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Document Type Definition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DTD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doctype state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identifies the version of HTML contained in your document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placed at the top of a web page documen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9bbb5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920-0842-4CFA-9D2A-1FE0C43D562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23880" y="576360"/>
            <a:ext cx="7382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ddf"/>
                </a:solidFill>
                <a:latin typeface="Gill Sans MT"/>
              </a:rPr>
              <a:t>DTD EXAMPLES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242424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09120" y="17524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288000" indent="-22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XHTML 1.0 Transitional DT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 PUBLIC "-//W3C//DTD XHTML 1.0 Transitional//EN"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3.org/TR/xhtml1/DTD/xhtml1-transitional.dtd&gt;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 MT"/>
                <a:ea typeface="Times New Roman"/>
              </a:rPr>
              <a:t>HTML5 DTD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ill Sans MT"/>
            </a:endParaRPr>
          </a:p>
          <a:p>
            <a:pPr marL="288000" indent="-22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!DOCTYPE html&gt;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5791320" y="641664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9006-C2BD-4154-B036-9AB281C0325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2:49:49Z</dcterms:created>
  <dc:creator>Terry Felke-Morris</dc:creator>
  <dc:description/>
  <dc:language>en-US</dc:language>
  <cp:lastModifiedBy>Paradise, Cheryl</cp:lastModifiedBy>
  <dcterms:modified xsi:type="dcterms:W3CDTF">2013-09-19T11:50:59Z</dcterms:modified>
  <cp:revision>65</cp:revision>
  <dc:subject>Chapter 1</dc:subject>
  <dc:title>Web Developer &amp; Design Foundations with XHTML</dc:title>
</cp:coreProperties>
</file>